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carscreech.wav" ContentType="audio/x-wav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6A69-0EB3-4623-B3C6-15CE0675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130-DCBA-4FA1-BD71-966A3EA4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AA0-3527-4AA8-A54E-D0E1C1D2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C5E9-BF27-48D3-A658-AA29566B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23B-454D-4C0D-AA00-6A7EE174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4F2-766F-4E4A-AFF1-9A3056E8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A4FD-CEC6-4169-9EC7-F96F2949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E343-7131-4519-A63C-999B4A8C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B16C-20E6-4B62-AECE-E934BCC9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0D05-B176-4ADB-B46E-56E84C1A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1D78-2ECE-4132-B8E4-132C6FD4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917B-D466-47D0-8422-D167FFE3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4169-44DA-4881-B0F2-BEC4A2314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ade-in-china.com/showimages/111/300003884/0/Lead_Acid_Battery_For_Automobile_(DIN_75)_-_6-QA-66T.jpg&amp;imgrefurl=http://www.made-in-china.com/products/show/premium/TAwMDA5ODIzM/TAwMDA1Mjk5M/3/Electrical_Electronics_Lead_Acid_Battery_For_Automobile_(DIN_75)_-_6-QA-66T.html&amp;h=288&amp;w=288&amp;sz=34&amp;tbnid=qhkev1Cb1tUx6M:&amp;tbnh=110&amp;tbnw=110&amp;hl=en&amp;start=7&amp;prev=/images%3Fq%3Dcar%2Bbattery%26svnum%3D10%26hl%3Den%26lr%3D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.uk/imgres?imgurl=http://www.autodirectsave.com/images/undercar2.jpg&amp;imgrefurl=http://www.autodirectsave.com/under_car_neon_light_lights.asp&amp;h=300&amp;w=400&amp;sz=9&amp;tbnid=HhS5y7n9n1WCdM:&amp;tbnh=90&amp;tbnw=120&amp;hl=en&amp;start=4&amp;prev=/images%3Fq%3Dcar%2Blights%26svnum%3D10%26hl%3Den%26lr%3D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.uk/imgres?imgurl=http://www.clipartreview.com/_gallery/_LG/1386039.jpg&amp;imgrefurl=http://www.clipartreview.com/_gallery/_pages/1386039.html&amp;h=337&amp;w=350&amp;sz=31&amp;tbnid=Ofrf9vnJDIQQQM:&amp;tbnh=111&amp;tbnw=116&amp;hl=en&amp;start=8&amp;prev=/images%3Fq%3Dcar%2Bbrakes%26svnum%3D10%26hl%3Den%26lr%3D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audio" Target="../media/carscreech.wav"/><Relationship Id="rId1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ade-in-china.com/showimages/111/300003884/0/Lead_Acid_Battery_For_Automobile_(DIN_75)_-_6-QA-66T.jpg&amp;imgrefurl=http://www.made-in-china.com/products/show/premium/TAwMDA5ODIzM/TAwMDA1Mjk5M/3/Electrical_Electronics_Lead_Acid_Battery_For_Automobile_(DIN_75)_-_6-QA-66T.html&amp;h=288&amp;w=288&amp;sz=34&amp;tbnid=qhkev1Cb1tUx6M:&amp;tbnh=110&amp;tbnw=110&amp;hl=en&amp;start=7&amp;prev=/images%3Fq%3Dcar%2Bbattery%26svnum%3D10%26hl%3Den%26lr%3D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.uk/imgres?imgurl=http://www.clipartreview.com/_gallery/_LG/1386039.jpg&amp;imgrefurl=http://www.clipartreview.com/_gallery/_pages/1386039.html&amp;h=337&amp;w=350&amp;sz=31&amp;tbnid=Ofrf9vnJDIQQQM:&amp;tbnh=111&amp;tbnw=116&amp;hl=en&amp;start=8&amp;prev=/images%3Fq%3Dcar%2Bbrakes%26svnum%3D10%26hl%3Den%26lr%3D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audio" Target="../media/carscreech.wav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ade-in-china.com/showimages/111/300003884/0/Lead_Acid_Battery_For_Automobile_(DIN_75)_-_6-QA-66T.jpg&amp;imgrefurl=http://www.made-in-china.com/products/show/premium/TAwMDA5ODIzM/TAwMDA1Mjk5M/3/Electrical_Electronics_Lead_Acid_Battery_For_Automobile_(DIN_75)_-_6-QA-66T.html&amp;h=288&amp;w=288&amp;sz=34&amp;tbnid=qhkev1Cb1tUx6M:&amp;tbnh=110&amp;tbnw=110&amp;hl=en&amp;start=7&amp;prev=/images%3Fq%3Dcar%2Bbattery%26svnum%3D10%26hl%3Den%26lr%3D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.uk/imgres?imgurl=http://www.autodirectsave.com/images/undercar2.jpg&amp;imgrefurl=http://www.autodirectsave.com/under_car_neon_light_lights.asp&amp;h=300&amp;w=400&amp;sz=9&amp;tbnid=HhS5y7n9n1WCdM:&amp;tbnh=90&amp;tbnw=120&amp;hl=en&amp;start=4&amp;prev=/images%3Fq%3Dcar%2Blights%26svnum%3D10%26hl%3Den%26lr%3D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.uk/imgres?imgurl=http://www.clipartreview.com/_gallery/_LG/1386039.jpg&amp;imgrefurl=http://www.clipartreview.com/_gallery/_pages/1386039.html&amp;h=337&amp;w=350&amp;sz=31&amp;tbnid=Ofrf9vnJDIQQQM:&amp;tbnh=111&amp;tbnw=116&amp;hl=en&amp;start=8&amp;prev=/images%3Fq%3Dcar%2Bbrakes%26svnum%3D10%26hl%3Den%26lr%3D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7.jpeg"/><Relationship Id="rId9" Type="http://schemas.openxmlformats.org/officeDocument/2006/relationships/audio" Target="../media/carscreech.wav"/><Relationship Id="rId10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audio" Target="../media/carscreech.wav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92360" y="1413000"/>
            <a:ext cx="2202120" cy="4184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58920" y="544500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Objetivos:  Recognise the vocabulary for car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40464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Lunes el 3 de ju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ngo un pin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 est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toy 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autopista 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marca 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color 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 matrícu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ngo un pin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 est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toy 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autopista 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color 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 matrícu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ngo un pin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 est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toy 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autopista 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color 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ngo un___________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 est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toy 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autopista 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color 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ngo un___________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 est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toy 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________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color 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ngo un___________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_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toy 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________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color 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ngo un___________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_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toy 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________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color es su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ngo un___________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_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_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________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color es su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ngo un___________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_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_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________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un___________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_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_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________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24000" y="47628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n la carretera – el vocabul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25360"/>
            <a:ext cx="406728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333399"/>
                </a:solidFill>
                <a:latin typeface="Comic Sans MS"/>
              </a:rPr>
              <a:t>Mi coche tiene una aver</a:t>
            </a:r>
            <a:r>
              <a:rPr b="1" lang="en-US" sz="2500" spc="-1" strike="noStrike">
                <a:solidFill>
                  <a:srgbClr val="333399"/>
                </a:solidFill>
                <a:latin typeface="Comic Sans MS"/>
                <a:ea typeface="Arial"/>
              </a:rPr>
              <a:t>í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mic Sans MS"/>
                <a:ea typeface="Arial"/>
              </a:rPr>
              <a:t>Tengo un pinchaz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mic Sans MS"/>
                <a:ea typeface="Arial"/>
              </a:rPr>
              <a:t>Tengo un problema con la baterí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mic Sans MS"/>
                <a:ea typeface="Arial"/>
              </a:rPr>
              <a:t>Las luces no funcion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mic Sans MS"/>
                <a:ea typeface="Arial"/>
              </a:rPr>
              <a:t>Se ha roto el parabris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mic Sans MS"/>
                <a:ea typeface="Arial"/>
              </a:rPr>
              <a:t>Los frenos no funcion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27640" y="1052640"/>
            <a:ext cx="4716360" cy="70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My car has broken d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I have a punc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I have a problem with the batt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The lights do not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The windscreen is brok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The breaks do not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85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385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385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385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un___________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_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_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________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un___________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_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_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________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un___________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_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_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________A2 _______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___________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un___________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_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_________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________A2 _______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________es su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_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: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B: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B: W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: A2 Mad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B: Ma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: Merce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B: Colo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: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: Re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B: Arriv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9200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n la carre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1197000"/>
            <a:ext cx="1704960" cy="194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3933720"/>
            <a:ext cx="1800360" cy="1351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1187280" y="3860640"/>
            <a:ext cx="1295640" cy="136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19640" y="1700280"/>
            <a:ext cx="201600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203640" y="4724280"/>
            <a:ext cx="2619360" cy="146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95280" y="907920"/>
            <a:ext cx="2016000" cy="1513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659640" y="4076640"/>
            <a:ext cx="1871640" cy="1859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3933720"/>
            <a:ext cx="129708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  <p:sndAc>
      <p:stSnd>
        <p:snd r:embed="rId10" name="carscreech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8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385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38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38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n la carretera</a:t>
            </a:r>
            <a:br>
              <a:rPr sz="2400"/>
            </a:b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¿Qué falt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3716280"/>
            <a:ext cx="1704960" cy="1944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981000"/>
            <a:ext cx="2016000" cy="1928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11280" y="3860640"/>
            <a:ext cx="2619360" cy="1467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084720" y="3933720"/>
            <a:ext cx="2016360" cy="1513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5508720" y="1413000"/>
            <a:ext cx="1871640" cy="1858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  <p:sndAc>
      <p:stSnd>
        <p:snd r:embed="rId8" name="carscreec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n la carretera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¿Qué falt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341360"/>
            <a:ext cx="1704960" cy="1944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2060640"/>
            <a:ext cx="1800000" cy="1350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>
            <a:off x="4067280" y="1915920"/>
            <a:ext cx="1295280" cy="136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63640" y="4508640"/>
            <a:ext cx="2016360" cy="1928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5292720" y="4797360"/>
            <a:ext cx="2619360" cy="1467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1042920" y="1484280"/>
            <a:ext cx="1871640" cy="1859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067280" y="2060640"/>
            <a:ext cx="1296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  <p:sndAc>
      <p:stSnd>
        <p:snd r:embed="rId9" name="carscreec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n la carre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51280" y="2349360"/>
            <a:ext cx="1704960" cy="1944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588000" y="1125360"/>
            <a:ext cx="1800360" cy="1351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V="1">
            <a:off x="6877080" y="1052280"/>
            <a:ext cx="1295280" cy="136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227640" y="4005360"/>
            <a:ext cx="2619360" cy="1466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403280" y="4149720"/>
            <a:ext cx="2016360" cy="1512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042920" y="1197000"/>
            <a:ext cx="1871640" cy="1859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948360" y="1268280"/>
            <a:ext cx="129708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  <p:sndAc>
      <p:stSnd>
        <p:snd r:embed="rId6" name="carscreec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: Tengo un problema con el co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ngo un pinch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 está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A: Estoy en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autopista A2 cerca de Mad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marca es su coch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color es su coch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4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 matrícul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ole p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600200"/>
          <a:ext cx="8229600" cy="2919240"/>
        </p:xfrm>
        <a:graphic>
          <a:graphicData uri="http://schemas.openxmlformats.org/drawingml/2006/table">
            <a:tbl>
              <a:tblPr/>
              <a:tblGrid>
                <a:gridCol w="1666800"/>
                <a:gridCol w="1625760"/>
                <a:gridCol w="1644480"/>
                <a:gridCol w="1554120"/>
                <a:gridCol w="173844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probl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l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regist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n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4 near mad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67 F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ghts don’t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gu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284 S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eaks don’t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rce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471 FD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oken wind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3 near Gir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ew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88 TP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eng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: Tengo un problema con el c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Qué le pa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ngo un pin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ónde est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toy 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autopista A2 cerca 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marca 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U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¿De qué color es su co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: ¿Y la matrícu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2195 B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  <a:ea typeface="Arial"/>
              </a:rPr>
              <a:t>B: Llegamos en se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8:51:29Z</dcterms:created>
  <dc:creator>Laptops For Teachers</dc:creator>
  <dc:description/>
  <dc:language>en-US</dc:language>
  <cp:lastModifiedBy>Owner1</cp:lastModifiedBy>
  <dcterms:modified xsi:type="dcterms:W3CDTF">2008-02-05T07:36:20Z</dcterms:modified>
  <cp:revision>14</cp:revision>
  <dc:subject/>
  <dc:title>Slide 1</dc:title>
</cp:coreProperties>
</file>